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CA1-5C24-46D8-9EF0-3D596F4A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AA7-FF17-440E-B307-AC412293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E54-2B7F-44AB-B9E9-0F8E0D7C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214-EF0D-4D58-BAC6-E1123EB5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E37-E848-4E76-8224-CC8FF75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959-DF0D-449C-865C-CD0F9537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64F-E7DE-4863-9B71-D028D5A9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084-8370-4085-8EDB-35ECF67A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E39-CDD2-4086-AE02-4E83A19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E4E-8EC5-4E2D-A95D-66BA980C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307-92BC-48CD-AC05-11F8BC5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3D5-F42E-46C2-8559-7078125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BADA-19E9-4A21-9DDB-F56FF7B9367F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155-6E32-4D90-AFDC-05BB845B5E1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876320" y="4532400"/>
            <a:ext cx="61772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 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표자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-ma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28880" y="1268280"/>
            <a:ext cx="6176880" cy="1297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ctr" anchorCtr="1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하려는 제품</a:t>
            </a:r>
            <a:r>
              <a:rPr b="1" lang="en-US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 명칭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1"/>
          <p:cNvSpPr/>
          <p:nvPr/>
        </p:nvSpPr>
        <p:spPr>
          <a:xfrm>
            <a:off x="3368520" y="476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  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036880" y="1195560"/>
            <a:ext cx="58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장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문제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결 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+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유하신 솔루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자와 협업 전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4f81bd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자율적 추가 항목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) EX.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성장 로드맵 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전략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5. 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팀빌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 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자료 및 성과자료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57280" y="5448600"/>
            <a:ext cx="9001080" cy="85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참고 </a:t>
            </a: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계획서는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필수 목차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3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개 항목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: 1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시장의 문제점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2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해결방안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3. LG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자와 협업전략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에 맞게 꼭 작성 부탁 드리며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추가 항목은 자율 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성장 로드맵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략 등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팀빌딩 순으로 구성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하여 작성 요망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목차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5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까지 총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20Page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내 작성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본문 내용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타자료 및 성과자료는 페이지 제한 없음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모든 문서는 본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PT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양식에 작성 및 첨부하여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DF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로 변환 후 제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출시 파란색문구 삭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그룹 1"/>
          <p:cNvGrpSpPr/>
          <p:nvPr/>
        </p:nvGrpSpPr>
        <p:grpSpPr>
          <a:xfrm>
            <a:off x="554760" y="1627200"/>
            <a:ext cx="1453320" cy="3354480"/>
            <a:chOff x="554760" y="1627200"/>
            <a:chExt cx="1453320" cy="3354480"/>
          </a:xfrm>
        </p:grpSpPr>
        <p:sp>
          <p:nvSpPr>
            <p:cNvPr id="47" name="직사각형 2"/>
            <p:cNvSpPr/>
            <p:nvPr/>
          </p:nvSpPr>
          <p:spPr>
            <a:xfrm>
              <a:off x="554760" y="2492280"/>
              <a:ext cx="91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ff0000"/>
                  </a:solidFill>
                  <a:uFillTx/>
                  <a:latin typeface="맑은 고딕"/>
                  <a:ea typeface="맑은 고딕"/>
                </a:rPr>
                <a:t>필수 목차 항목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맑은 고딕"/>
                  <a:ea typeface="맑은 고딕"/>
                </a:rPr>
                <a:t>1, 2, 3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직선 연결선 8"/>
            <p:cNvSpPr/>
            <p:nvPr/>
          </p:nvSpPr>
          <p:spPr>
            <a:xfrm flipH="1">
              <a:off x="1712880" y="162720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직선 연결선 13"/>
            <p:cNvSpPr/>
            <p:nvPr/>
          </p:nvSpPr>
          <p:spPr>
            <a:xfrm flipH="1">
              <a:off x="1712880" y="221112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직선 연결선 14"/>
            <p:cNvSpPr/>
            <p:nvPr/>
          </p:nvSpPr>
          <p:spPr>
            <a:xfrm flipH="1">
              <a:off x="1712880" y="281304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직선 연결선 11"/>
            <p:cNvSpPr/>
            <p:nvPr/>
          </p:nvSpPr>
          <p:spPr>
            <a:xfrm>
              <a:off x="1712880" y="1627200"/>
              <a:ext cx="0" cy="334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직선 연결선 17"/>
            <p:cNvSpPr/>
            <p:nvPr/>
          </p:nvSpPr>
          <p:spPr>
            <a:xfrm flipH="1">
              <a:off x="1712880" y="498168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장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문제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1800" y="981000"/>
            <a:ext cx="864252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현재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시장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고객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이 느끼는 문제점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결 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+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유하신 솔루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31800" y="981000"/>
            <a:ext cx="8642520" cy="96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우리 해결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해결방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고객에게 주는 핵심가치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를 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품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서비스의 개발 동기 및 목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솔루션 차별화 방안 및 경쟁 우위 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LG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자와 협업 전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31800" y="981000"/>
            <a:ext cx="864252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보유하고 있는 솔루션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서비스를 해당 모집분야에 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LG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전자와 협력 적용하는 방안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및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기대효과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등 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31800" y="981000"/>
            <a:ext cx="9001080" cy="77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팀빌딩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대표이력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팀원구성 및 역량 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기타 자료증빙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업소개 및 추가자료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상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인증 및 기타성과 관련 증빙자료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 뒷장에 추가 및 설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58:10Z</dcterms:created>
  <dc:creator>yunyee</dc:creator>
  <dc:description/>
  <dc:language>en-US</dc:language>
  <cp:lastModifiedBy>Administrator</cp:lastModifiedBy>
  <cp:lastPrinted>2023-08-16T05:20:41Z</cp:lastPrinted>
  <dcterms:modified xsi:type="dcterms:W3CDTF">2024-03-19T06:13:26Z</dcterms:modified>
  <cp:revision>129</cp:revision>
  <dc:subject/>
  <dc:title>슬라이드 1</dc:title>
</cp:coreProperties>
</file>