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0AA6-570E-4FD4-B4CA-47247E08A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28AC-7FA5-43E4-B521-114F8499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1BA5-6C75-4747-8D7B-9DB4F3C58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F53F-1D0F-4F72-9246-F6AE4AD49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5CED-E332-48D9-A8A9-3D061B49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1E93-7493-46A4-9736-1FE64626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1126-3E4E-42C2-BB92-6A05B43F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1DE8-D1E8-451E-9386-139449AA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040C-2CEC-46DD-9992-522C81F9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5565-A1CF-4ACE-BE81-2CAE861D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01DA-78AE-452D-94BC-D1B18F31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6815-1FF3-4867-AD9F-F6B58232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2AA9-AFAB-42EE-897B-2696B05C64AD}" type="datetime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26年 7月 30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8E50-B5A9-43DE-A13F-EC6B2FDBBAD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28880" y="4581360"/>
            <a:ext cx="617688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업 명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표자명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락처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-mai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928880" y="1268280"/>
            <a:ext cx="6176880" cy="12970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180000" anchor="ctr" anchorCtr="1">
            <a:no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원하려는 제품</a:t>
            </a:r>
            <a:r>
              <a:rPr b="1" lang="en-US" sz="3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1" lang="ko-KR" sz="3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비스 명칭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1"/>
          <p:cNvSpPr/>
          <p:nvPr/>
        </p:nvSpPr>
        <p:spPr>
          <a:xfrm>
            <a:off x="3368520" y="47628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목   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2036880" y="1195560"/>
            <a:ext cx="5832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장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객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문제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해결 방안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+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보유하신 솔루션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비스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하나은행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하나금융그룹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협업 전략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방안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00000"/>
              </a:lnSpc>
              <a:buClr>
                <a:srgbClr val="4f81bd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맑은 고딕"/>
                <a:ea typeface="맑은 고딕"/>
              </a:rPr>
              <a:t>(</a:t>
            </a:r>
            <a:r>
              <a:rPr b="1" lang="ko-KR" sz="2000" spc="-1" strike="noStrike">
                <a:solidFill>
                  <a:srgbClr val="4f81bd"/>
                </a:solidFill>
                <a:latin typeface="맑은 고딕"/>
                <a:ea typeface="맑은 고딕"/>
              </a:rPr>
              <a:t>자율적 추가 항목</a:t>
            </a:r>
            <a:r>
              <a:rPr b="1" lang="en-US" sz="2000" spc="-1" strike="noStrike">
                <a:solidFill>
                  <a:srgbClr val="4f81bd"/>
                </a:solidFill>
                <a:latin typeface="맑은 고딕"/>
                <a:ea typeface="맑은 고딕"/>
              </a:rPr>
              <a:t>) EX. </a:t>
            </a:r>
            <a:r>
              <a:rPr b="1" lang="ko-KR" sz="2000" spc="-1" strike="noStrike">
                <a:solidFill>
                  <a:srgbClr val="4f81bd"/>
                </a:solidFill>
                <a:latin typeface="맑은 고딕"/>
                <a:ea typeface="맑은 고딕"/>
              </a:rPr>
              <a:t>성장 로드맵 </a:t>
            </a:r>
            <a:r>
              <a:rPr b="1" lang="en-US" sz="2000" spc="-1" strike="noStrike">
                <a:solidFill>
                  <a:srgbClr val="4f81bd"/>
                </a:solidFill>
                <a:latin typeface="맑은 고딕"/>
                <a:ea typeface="맑은 고딕"/>
              </a:rPr>
              <a:t>/</a:t>
            </a:r>
            <a:r>
              <a:rPr b="1" lang="ko-KR" sz="2000" spc="-1" strike="noStrike">
                <a:solidFill>
                  <a:srgbClr val="4f81bd"/>
                </a:solidFill>
                <a:latin typeface="맑은 고딕"/>
                <a:ea typeface="맑은 고딕"/>
              </a:rPr>
              <a:t>전략 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맑은 고딕"/>
                <a:ea typeface="맑은 고딕"/>
              </a:rPr>
              <a:t>5.  </a:t>
            </a:r>
            <a:r>
              <a:rPr b="1" lang="ko-KR" sz="2000" spc="-1" strike="noStrike">
                <a:solidFill>
                  <a:srgbClr val="4f81bd"/>
                </a:solidFill>
                <a:latin typeface="맑은 고딕"/>
                <a:ea typeface="맑은 고딕"/>
              </a:rPr>
              <a:t>팀빌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맑은 고딕"/>
                <a:ea typeface="맑은 고딕"/>
              </a:rPr>
              <a:t> 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참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]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타자료 및 성과자료 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57280" y="5448600"/>
            <a:ext cx="9001080" cy="855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※ </a:t>
            </a:r>
            <a:r>
              <a:rPr b="0" lang="ko-KR" sz="11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참고 </a:t>
            </a:r>
            <a:r>
              <a:rPr b="0" lang="en-US" sz="11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사업계획서는 </a:t>
            </a:r>
            <a:r>
              <a:rPr b="1" lang="ko-KR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필수 목차항목</a:t>
            </a:r>
            <a:r>
              <a:rPr b="1" lang="en-US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(3</a:t>
            </a:r>
            <a:r>
              <a:rPr b="1" lang="ko-KR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개 항목 </a:t>
            </a:r>
            <a:r>
              <a:rPr b="1" lang="en-US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: 1. </a:t>
            </a:r>
            <a:r>
              <a:rPr b="1" lang="ko-KR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시장의 문제점</a:t>
            </a:r>
            <a:r>
              <a:rPr b="1" lang="en-US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, 2. </a:t>
            </a:r>
            <a:r>
              <a:rPr b="1" lang="ko-KR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해결방안 </a:t>
            </a:r>
            <a:r>
              <a:rPr b="1" lang="en-US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3. </a:t>
            </a:r>
            <a:r>
              <a:rPr b="1" lang="ko-KR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하나은행과 협업전략</a:t>
            </a:r>
            <a:r>
              <a:rPr b="1" lang="en-US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)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에 맞게 꼭 작성 부탁 드리며</a:t>
            </a: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,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           </a:t>
            </a:r>
            <a:r>
              <a:rPr b="1" lang="ko-KR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추가 항목은 자율 항목</a:t>
            </a:r>
            <a:r>
              <a:rPr b="1" lang="en-US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(</a:t>
            </a:r>
            <a:r>
              <a:rPr b="1" lang="ko-KR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성장 로드맵</a:t>
            </a:r>
            <a:r>
              <a:rPr b="1" lang="en-US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, </a:t>
            </a:r>
            <a:r>
              <a:rPr b="1" lang="ko-KR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전략 등</a:t>
            </a:r>
            <a:r>
              <a:rPr b="1" lang="en-US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), </a:t>
            </a:r>
            <a:r>
              <a:rPr b="1" lang="ko-KR" sz="11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팀빌딩 순으로 구성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하여 작성 요망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            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목차 </a:t>
            </a: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5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까지 총 </a:t>
            </a: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20Page 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이내 작성</a:t>
            </a: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(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본문 내용</a:t>
            </a: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), 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기타자료 및 성과자료는 페이지 제한 없음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            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모든 문서는 본 </a:t>
            </a: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PPT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양식에 작성 및 첨부하여 </a:t>
            </a: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PDF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로 변환 후 제출</a:t>
            </a: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(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제출시 파란색문구 삭제</a:t>
            </a: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6" name="그룹 1"/>
          <p:cNvGrpSpPr/>
          <p:nvPr/>
        </p:nvGrpSpPr>
        <p:grpSpPr>
          <a:xfrm>
            <a:off x="554760" y="1627200"/>
            <a:ext cx="1453320" cy="3354480"/>
            <a:chOff x="554760" y="1627200"/>
            <a:chExt cx="1453320" cy="3354480"/>
          </a:xfrm>
        </p:grpSpPr>
        <p:sp>
          <p:nvSpPr>
            <p:cNvPr id="47" name="직사각형 2"/>
            <p:cNvSpPr/>
            <p:nvPr/>
          </p:nvSpPr>
          <p:spPr>
            <a:xfrm>
              <a:off x="554760" y="2492280"/>
              <a:ext cx="9122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 u="sng">
                  <a:solidFill>
                    <a:srgbClr val="ff0000"/>
                  </a:solidFill>
                  <a:uFillTx/>
                  <a:latin typeface="맑은 고딕"/>
                  <a:ea typeface="맑은 고딕"/>
                </a:rPr>
                <a:t>필수 목차 항목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맑은 고딕"/>
                  <a:ea typeface="맑은 고딕"/>
                </a:rPr>
                <a:t>1, 2, 3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" name="직선 연결선 9"/>
            <p:cNvSpPr/>
            <p:nvPr/>
          </p:nvSpPr>
          <p:spPr>
            <a:xfrm flipH="1">
              <a:off x="1712880" y="1627200"/>
              <a:ext cx="295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" name="직선 연결선 10"/>
            <p:cNvSpPr/>
            <p:nvPr/>
          </p:nvSpPr>
          <p:spPr>
            <a:xfrm flipH="1">
              <a:off x="1712880" y="2211120"/>
              <a:ext cx="295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직선 연결선 11"/>
            <p:cNvSpPr/>
            <p:nvPr/>
          </p:nvSpPr>
          <p:spPr>
            <a:xfrm flipH="1">
              <a:off x="1712880" y="2813040"/>
              <a:ext cx="295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" name="직선 연결선 12"/>
            <p:cNvSpPr/>
            <p:nvPr/>
          </p:nvSpPr>
          <p:spPr>
            <a:xfrm>
              <a:off x="1712880" y="1627200"/>
              <a:ext cx="0" cy="3348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" name="직선 연결선 13"/>
            <p:cNvSpPr/>
            <p:nvPr/>
          </p:nvSpPr>
          <p:spPr>
            <a:xfrm flipH="1">
              <a:off x="1712880" y="4981680"/>
              <a:ext cx="295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0"/>
          <p:cNvSpPr/>
          <p:nvPr/>
        </p:nvSpPr>
        <p:spPr>
          <a:xfrm>
            <a:off x="272880" y="115920"/>
            <a:ext cx="58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장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객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문제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31800" y="981000"/>
            <a:ext cx="864252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⇒ 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현재 </a:t>
            </a:r>
            <a:r>
              <a:rPr b="1" lang="ko-KR" sz="1400" spc="-1" strike="noStrike" u="sng">
                <a:solidFill>
                  <a:srgbClr val="0070c0"/>
                </a:solidFill>
                <a:uFillTx/>
                <a:latin typeface="맑은 고딕"/>
                <a:ea typeface="맑은 고딕"/>
              </a:rPr>
              <a:t>시장</a:t>
            </a:r>
            <a:r>
              <a:rPr b="1" lang="en-US" sz="1400" spc="-1" strike="noStrike" u="sng">
                <a:solidFill>
                  <a:srgbClr val="0070c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400" spc="-1" strike="noStrike" u="sng">
                <a:solidFill>
                  <a:srgbClr val="0070c0"/>
                </a:solidFill>
                <a:uFillTx/>
                <a:latin typeface="맑은 고딕"/>
                <a:ea typeface="맑은 고딕"/>
              </a:rPr>
              <a:t>고객</a:t>
            </a:r>
            <a:r>
              <a:rPr b="1" lang="en-US" sz="1400" spc="-1" strike="noStrike" u="sng">
                <a:solidFill>
                  <a:srgbClr val="0070c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400" spc="-1" strike="noStrike" u="sng">
                <a:solidFill>
                  <a:srgbClr val="0070c0"/>
                </a:solidFill>
                <a:uFillTx/>
                <a:latin typeface="맑은 고딕"/>
                <a:ea typeface="맑은 고딕"/>
              </a:rPr>
              <a:t>이 느끼는 문제점 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설명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0"/>
          <p:cNvSpPr/>
          <p:nvPr/>
        </p:nvSpPr>
        <p:spPr>
          <a:xfrm>
            <a:off x="272880" y="115920"/>
            <a:ext cx="58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해결 방안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+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보유하신 솔루션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비스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31800" y="981000"/>
            <a:ext cx="8642520" cy="960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⇒ 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우리 해결책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(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해결방안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)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이 </a:t>
            </a:r>
            <a:r>
              <a:rPr b="1" lang="ko-KR" sz="1400" spc="-1" strike="noStrike" u="sng">
                <a:solidFill>
                  <a:srgbClr val="0070c0"/>
                </a:solidFill>
                <a:uFillTx/>
                <a:latin typeface="맑은 고딕"/>
                <a:ea typeface="맑은 고딕"/>
              </a:rPr>
              <a:t>고객에게 주는 핵심가치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를 설명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     </a:t>
            </a: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- 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제품</a:t>
            </a: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/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서비스의 개발 동기 및 목적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     </a:t>
            </a:r>
            <a:r>
              <a:rPr b="0" lang="en-US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- </a:t>
            </a:r>
            <a:r>
              <a:rPr b="0" lang="ko-KR" sz="11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솔루션 차별화 방안 및 경쟁 우위 등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0"/>
          <p:cNvSpPr/>
          <p:nvPr/>
        </p:nvSpPr>
        <p:spPr>
          <a:xfrm>
            <a:off x="272880" y="115920"/>
            <a:ext cx="58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하나은행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하나금융그룹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협업 전략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방안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31800" y="981000"/>
            <a:ext cx="8642520" cy="778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⇒ 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보유하고 있는 솔루션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/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서비스를 해당 모집분야에 </a:t>
            </a:r>
            <a:r>
              <a:rPr b="1" lang="ko-KR" sz="1400" spc="-1" strike="noStrike" u="sng">
                <a:solidFill>
                  <a:srgbClr val="0070c0"/>
                </a:solidFill>
                <a:uFillTx/>
                <a:latin typeface="맑은 고딕"/>
                <a:ea typeface="맑은 고딕"/>
              </a:rPr>
              <a:t>하나은행</a:t>
            </a:r>
            <a:r>
              <a:rPr b="1" lang="en-US" sz="1400" spc="-1" strike="noStrike" u="sng">
                <a:solidFill>
                  <a:srgbClr val="0070c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400" spc="-1" strike="noStrike" u="sng">
                <a:solidFill>
                  <a:srgbClr val="0070c0"/>
                </a:solidFill>
                <a:uFillTx/>
                <a:latin typeface="맑은 고딕"/>
                <a:ea typeface="맑은 고딕"/>
              </a:rPr>
              <a:t>하나금융그룹</a:t>
            </a:r>
            <a:r>
              <a:rPr b="1" lang="en-US" sz="1400" spc="-1" strike="noStrike" u="sng">
                <a:solidFill>
                  <a:srgbClr val="0070c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400" spc="-1" strike="noStrike" u="sng">
                <a:solidFill>
                  <a:srgbClr val="0070c0"/>
                </a:solidFill>
                <a:uFillTx/>
                <a:latin typeface="맑은 고딕"/>
                <a:ea typeface="맑은 고딕"/>
              </a:rPr>
              <a:t>과 협력 적용하는 방안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 및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    </a:t>
            </a:r>
            <a:r>
              <a:rPr b="1" lang="ko-KR" sz="1400" spc="-1" strike="noStrike" u="sng">
                <a:solidFill>
                  <a:srgbClr val="0070c0"/>
                </a:solidFill>
                <a:uFillTx/>
                <a:latin typeface="맑은 고딕"/>
                <a:ea typeface="맑은 고딕"/>
              </a:rPr>
              <a:t>기대효과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 등 설명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0"/>
          <p:cNvSpPr/>
          <p:nvPr/>
        </p:nvSpPr>
        <p:spPr>
          <a:xfrm>
            <a:off x="272880" y="115920"/>
            <a:ext cx="58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참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631800" y="981000"/>
            <a:ext cx="8642520" cy="778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⇒ </a:t>
            </a:r>
            <a:r>
              <a:rPr b="1" lang="ko-KR" sz="1400" spc="-1" strike="noStrike" u="sng">
                <a:solidFill>
                  <a:srgbClr val="0070c0"/>
                </a:solidFill>
                <a:uFillTx/>
                <a:latin typeface="맑은 고딕"/>
                <a:ea typeface="맑은 고딕"/>
              </a:rPr>
              <a:t>팀빌딩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(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대표이력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팀원구성 및 역량 등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), </a:t>
            </a:r>
            <a:r>
              <a:rPr b="1" lang="en-US" sz="1400" spc="-1" strike="noStrike" u="sng">
                <a:solidFill>
                  <a:srgbClr val="0070c0"/>
                </a:solidFill>
                <a:uFillTx/>
                <a:latin typeface="맑은 고딕"/>
                <a:ea typeface="맑은 고딕"/>
              </a:rPr>
              <a:t>PoC</a:t>
            </a:r>
            <a:r>
              <a:rPr b="1" lang="ko-KR" sz="1400" spc="-1" strike="noStrike" u="sng">
                <a:solidFill>
                  <a:srgbClr val="0070c0"/>
                </a:solidFill>
                <a:uFillTx/>
                <a:latin typeface="맑은 고딕"/>
                <a:ea typeface="맑은 고딕"/>
              </a:rPr>
              <a:t>상금 활용계획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,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    </a:t>
            </a:r>
            <a:r>
              <a:rPr b="1" lang="ko-KR" sz="1400" spc="-1" strike="noStrike" u="sng">
                <a:solidFill>
                  <a:srgbClr val="0070c0"/>
                </a:solidFill>
                <a:uFillTx/>
                <a:latin typeface="맑은 고딕"/>
                <a:ea typeface="맑은 고딕"/>
              </a:rPr>
              <a:t>기타 성과증빙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(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기업소개 및 추가자료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수상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특허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인증 및 기타성과 관련 증빙자료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) </a:t>
            </a:r>
            <a:r>
              <a:rPr b="0" lang="ko-KR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등 뒷장에 추가 설명</a:t>
            </a:r>
            <a:r>
              <a:rPr b="0" lang="en-US" sz="14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01:58:10Z</dcterms:created>
  <dc:creator>yunyee</dc:creator>
  <dc:description/>
  <dc:language>en-US</dc:language>
  <cp:lastModifiedBy>Administrator</cp:lastModifiedBy>
  <cp:lastPrinted>2023-08-16T05:20:41Z</cp:lastPrinted>
  <dcterms:modified xsi:type="dcterms:W3CDTF">2024-08-19T01:29:59Z</dcterms:modified>
  <cp:revision>127</cp:revision>
  <dc:subject/>
  <dc:title>슬라이드 1</dc:title>
</cp:coreProperties>
</file>