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ACC-CE71-4033-BE7C-DC06E733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17D-C3B1-4FF2-8A3B-1F381B40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33C-7A74-4D9B-9D21-BA60F936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A7C-DB44-4349-8204-39A3C871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C95-4240-49CA-8E89-9B7168E2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009-80C8-4A14-9B54-093B46B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05F-C528-44DE-AE1D-9AAF1DFA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C43-00A1-41D6-BFB7-569A54AB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888-9482-4FA0-A3AD-11C559A6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EEB-E96E-49F1-899C-41C123E4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57D-5AA1-4DDA-A38C-60713C8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C93-5D30-4AFD-99E1-4CF6CAD5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9BF5-0226-4BF0-AC6F-CC1D25705056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971C-7B36-4677-9BB7-95C780B1FCA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876320" y="4532400"/>
            <a:ext cx="61772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업 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표자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락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-mai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28880" y="1268280"/>
            <a:ext cx="6176880" cy="12970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ctr" anchorCtr="1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하려는 제품</a:t>
            </a:r>
            <a:r>
              <a:rPr b="1" lang="en-US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비스 명칭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1"/>
          <p:cNvSpPr/>
          <p:nvPr/>
        </p:nvSpPr>
        <p:spPr>
          <a:xfrm>
            <a:off x="3368520" y="26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  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2036880" y="979560"/>
            <a:ext cx="608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장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문제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결 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+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유하신 솔루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비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화 현황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허가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험급여 계획 및 현황 포함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동그룹과의 협업 전략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4f81bd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자율적 추가 항목</a:t>
            </a: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) EX. 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성장 로드맵 </a:t>
            </a: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전략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4f81bd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팀빌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 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자료 및 성과자료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57280" y="5739120"/>
            <a:ext cx="9001080" cy="85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0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참고 </a:t>
            </a:r>
            <a:r>
              <a:rPr b="0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사업계획서는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필수 목차항목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4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개 항목 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: 1.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시장의 문제점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, 2.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해결방안 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3.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일동그룹과의 협업전략 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4.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사업화 현황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)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에 맞게 꼭 작성 부탁 드리며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추가 항목은 자율 항목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성장 로드맵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전략 등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),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팀빌딩 순으로 구성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하여 작성 요망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목차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6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까지 총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20Page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이내 작성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본문 내용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,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타자료 및 성과자료는 페이지 제한 없음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모든 문서는 본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PT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양식에 작성 및 첨부하여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DF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로 변환 후 제출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제출시 파란색문구 삭제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그룹 1"/>
          <p:cNvGrpSpPr/>
          <p:nvPr/>
        </p:nvGrpSpPr>
        <p:grpSpPr>
          <a:xfrm>
            <a:off x="554760" y="1411200"/>
            <a:ext cx="1453320" cy="3970440"/>
            <a:chOff x="554760" y="1411200"/>
            <a:chExt cx="1453320" cy="3970440"/>
          </a:xfrm>
        </p:grpSpPr>
        <p:sp>
          <p:nvSpPr>
            <p:cNvPr id="47" name="직사각형 2"/>
            <p:cNvSpPr/>
            <p:nvPr/>
          </p:nvSpPr>
          <p:spPr>
            <a:xfrm>
              <a:off x="554760" y="2284200"/>
              <a:ext cx="912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ff0000"/>
                  </a:solidFill>
                  <a:uFillTx/>
                  <a:latin typeface="맑은 고딕"/>
                  <a:ea typeface="맑은 고딕"/>
                </a:rPr>
                <a:t>필수 목차 항목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맑은 고딕"/>
                  <a:ea typeface="맑은 고딕"/>
                </a:rPr>
                <a:t>1, 2, 3, 4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직선 연결선 8"/>
            <p:cNvSpPr/>
            <p:nvPr/>
          </p:nvSpPr>
          <p:spPr>
            <a:xfrm flipH="1">
              <a:off x="1712880" y="141120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직선 연결선 13"/>
            <p:cNvSpPr/>
            <p:nvPr/>
          </p:nvSpPr>
          <p:spPr>
            <a:xfrm flipH="1">
              <a:off x="1712880" y="200088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직선 연결선 14"/>
            <p:cNvSpPr/>
            <p:nvPr/>
          </p:nvSpPr>
          <p:spPr>
            <a:xfrm flipH="1">
              <a:off x="1712880" y="260784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직선 연결선 11"/>
            <p:cNvSpPr/>
            <p:nvPr/>
          </p:nvSpPr>
          <p:spPr>
            <a:xfrm>
              <a:off x="1712880" y="1411200"/>
              <a:ext cx="0" cy="39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직선 연결선 17"/>
            <p:cNvSpPr/>
            <p:nvPr/>
          </p:nvSpPr>
          <p:spPr>
            <a:xfrm flipH="1">
              <a:off x="1712880" y="537840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직선 연결선 12"/>
            <p:cNvSpPr/>
            <p:nvPr/>
          </p:nvSpPr>
          <p:spPr>
            <a:xfrm flipH="1">
              <a:off x="1712880" y="32295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장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문제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31800" y="981000"/>
            <a:ext cx="864252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현재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시장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고객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이 느끼는 문제점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설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결 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+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유하신 솔루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비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31800" y="981000"/>
            <a:ext cx="8642520" cy="960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우리 해결책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해결방안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이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고객에게 주는 핵심가치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를 설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제품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서비스의 개발 동기 및 목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솔루션 차별화 방안 및 경쟁 우위 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동그룹과의 협업 전략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31800" y="981000"/>
            <a:ext cx="878508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보유하고 있는 솔루션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서비스를 해당 모집분야에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일동그룹과의 협력 적용하는 방안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및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기대효과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등 설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0"/>
          <p:cNvSpPr/>
          <p:nvPr/>
        </p:nvSpPr>
        <p:spPr>
          <a:xfrm>
            <a:off x="272880" y="115920"/>
            <a:ext cx="59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화 현황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허가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험급여 계획 및 현황 포함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31800" y="981000"/>
            <a:ext cx="878508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0" lang="ko-KR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제품</a:t>
            </a: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0" lang="ko-KR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솔루션</a:t>
            </a: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0" lang="ko-KR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서비스 등에 대해 사업화 현황을 포함하되</a:t>
            </a: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허가와 보험급여에 해당한다면 이에 대한 계획과 현황을 반드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31800" y="981000"/>
            <a:ext cx="9001080" cy="778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팀빌딩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대표이력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팀원구성 및 역량 등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기타 자료증빙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업소개 및 추가자료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수상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특허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인증 및 기타성과 관련 증빙자료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등 뒷장에 추가 및 설명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1:58:10Z</dcterms:created>
  <dc:creator>yunyee</dc:creator>
  <dc:description/>
  <dc:language>en-US</dc:language>
  <cp:lastModifiedBy>Administrator</cp:lastModifiedBy>
  <cp:lastPrinted>2023-08-16T05:20:41Z</cp:lastPrinted>
  <dcterms:modified xsi:type="dcterms:W3CDTF">2024-04-22T07:10:29Z</dcterms:modified>
  <cp:revision>134</cp:revision>
  <dc:subject/>
  <dc:title>슬라이드 1</dc:title>
</cp:coreProperties>
</file>